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E46-8A01-4085-9306-A7FABE4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8A3-0264-4D57-B5F1-E58D1E0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7BD-050C-4E8A-9F3B-481FC5C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92C-DA51-46B7-8209-6E0A5C34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271-0EB7-4931-8BD1-0D0DA75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CD4-74EB-4A50-A59A-50C6E56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BE3-2D95-44AD-842D-55B64E02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A18-6698-4EA8-A7F2-3D2C00B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E3D-E763-46E3-92AC-53EA33C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B8A-27BF-48D8-A328-3393970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473-E51F-4041-837E-CAD0B46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74D-CC05-4E1C-B62B-7AB17D44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AF20-25FF-4910-9403-48D05CA66D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4936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　万用编程器的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371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LT—4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SP—4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UP—48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等是可以同电脑相连接的万用编程器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多功能编程器配合电脑重新读写码片和字库资料来修复手机时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需拆机取下码片和字库芯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181840" cy="336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5146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LABTOOL—48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的使用为例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4114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LT—48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操作主界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32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914400"/>
            <a:ext cx="80769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74400"/>
            <a:ext cx="3581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LT—48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操作说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2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914400"/>
            <a:ext cx="8076960" cy="566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2819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打开：从磁盘把文件调入缓冲区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0481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保存：将缓冲区内容存入磁盘中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276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选型：选择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厂家及型号</a:t>
            </a:r>
            <a:r>
              <a:rPr b="1" lang="zh-CN" sz="1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812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编辑：修改缓冲区内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查空：检查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是否空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438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读入：把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内容读入缓冲区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743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编程：把缓冲区内容写入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校验：校验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内容的准确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76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比较：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内容与缓冲区内容比较</a:t>
            </a:r>
            <a:r>
              <a:rPr b="0" lang="zh-CN" sz="1800" spc="-1" strike="noStrike">
                <a:solidFill>
                  <a:srgbClr val="99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擦除：擦除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中内容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457200"/>
            <a:ext cx="8076960" cy="606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2209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使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T—48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主要是写版本和码片，并且收集新的数据资料。这需要学生加强练习才能掌握操作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7:05:24Z</dcterms:modified>
  <cp:revision>13</cp:revision>
  <dc:subject/>
  <dc:title>PowerPoint Presentation</dc:title>
</cp:coreProperties>
</file>